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253163" cy="9612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4.xml"/><Relationship Id="rId4" Type="http://schemas.openxmlformats.org/officeDocument/2006/relationships/slide" Target="slide14.xml"/><Relationship Id="rId5" Type="http://schemas.openxmlformats.org/officeDocument/2006/relationships/slide" Target="slide15.xml"/><Relationship Id="rId6" Type="http://schemas.openxmlformats.org/officeDocument/2006/relationships/slide" Target="slide15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4.xml"/><Relationship Id="rId11" Type="http://schemas.openxmlformats.org/officeDocument/2006/relationships/slide" Target="slide24.xml"/><Relationship Id="rId12" Type="http://schemas.openxmlformats.org/officeDocument/2006/relationships/slide" Target="slide24.xml"/><Relationship Id="rId1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9.xml"/><Relationship Id="rId11" Type="http://schemas.openxmlformats.org/officeDocument/2006/relationships/slide" Target="slide9.xml"/><Relationship Id="rId12" Type="http://schemas.openxmlformats.org/officeDocument/2006/relationships/slide" Target="slide9.xml"/><Relationship Id="rId13" Type="http://schemas.openxmlformats.org/officeDocument/2006/relationships/slide" Target="slide10.xml"/><Relationship Id="rId14" Type="http://schemas.openxmlformats.org/officeDocument/2006/relationships/slide" Target="slide10.xml"/><Relationship Id="rId15" Type="http://schemas.openxmlformats.org/officeDocument/2006/relationships/slide" Target="slide10.xml"/><Relationship Id="rId1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9.xml"/><Relationship Id="rId7" Type="http://schemas.openxmlformats.org/officeDocument/2006/relationships/slide" Target="slide9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0.xml"/><Relationship Id="rId11" Type="http://schemas.openxmlformats.org/officeDocument/2006/relationships/slide" Target="slide10.xml"/><Relationship Id="rId1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9.xml"/><Relationship Id="rId7" Type="http://schemas.openxmlformats.org/officeDocument/2006/relationships/slide" Target="slide9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0.xml"/><Relationship Id="rId11" Type="http://schemas.openxmlformats.org/officeDocument/2006/relationships/slide" Target="slide10.xml"/><Relationship Id="rId1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9.xml"/><Relationship Id="rId7" Type="http://schemas.openxmlformats.org/officeDocument/2006/relationships/slide" Target="slide9.xml"/><Relationship Id="rId8" Type="http://schemas.openxmlformats.org/officeDocument/2006/relationships/slide" Target="slide9.xml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7.xml"/><Relationship Id="rId3" Type="http://schemas.openxmlformats.org/officeDocument/2006/relationships/slide" Target="slide18.xml"/><Relationship Id="rId4" Type="http://schemas.openxmlformats.org/officeDocument/2006/relationships/slide" Target="slide18.xml"/><Relationship Id="rId5" Type="http://schemas.openxmlformats.org/officeDocument/2006/relationships/slide" Target="slide18.xml"/><Relationship Id="rId6" Type="http://schemas.openxmlformats.org/officeDocument/2006/relationships/slide" Target="slide16.xml"/><Relationship Id="rId7" Type="http://schemas.openxmlformats.org/officeDocument/2006/relationships/slide" Target="slide16.xml"/><Relationship Id="rId8" Type="http://schemas.openxmlformats.org/officeDocument/2006/relationships/slide" Target="slide16.xml"/><Relationship Id="rId9" Type="http://schemas.openxmlformats.org/officeDocument/2006/relationships/slide" Target="slide19.xml"/><Relationship Id="rId10" Type="http://schemas.openxmlformats.org/officeDocument/2006/relationships/slide" Target="slide19.xml"/><Relationship Id="rId11" Type="http://schemas.openxmlformats.org/officeDocument/2006/relationships/slide" Target="slide1.xml"/><Relationship Id="rId12" Type="http://schemas.openxmlformats.org/officeDocument/2006/relationships/slide" Target="slide1.xml"/><Relationship Id="rId13" Type="http://schemas.openxmlformats.org/officeDocument/2006/relationships/slide" Target="slide15.xml"/><Relationship Id="rId1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5.xm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5.xml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5.xml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slide" Target="slide21.xml"/><Relationship Id="rId6" Type="http://schemas.openxmlformats.org/officeDocument/2006/relationships/slide" Target="slide1.xml"/><Relationship Id="rId7" Type="http://schemas.openxmlformats.org/officeDocument/2006/relationships/slide" Target="slide1.xml"/><Relationship Id="rId8" Type="http://schemas.openxmlformats.org/officeDocument/2006/relationships/slide" Target="slide15.xml"/><Relationship Id="rId9" Type="http://schemas.openxmlformats.org/officeDocument/2006/relationships/slide" Target="slide19.xml"/><Relationship Id="rId10" Type="http://schemas.openxmlformats.org/officeDocument/2006/relationships/slide" Target="slide19.xml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9.xml"/><Relationship Id="rId6" Type="http://schemas.openxmlformats.org/officeDocument/2006/relationships/slide" Target="slide9.xml"/><Relationship Id="rId7" Type="http://schemas.openxmlformats.org/officeDocument/2006/relationships/slide" Target="slide9.xml"/><Relationship Id="rId8" Type="http://schemas.openxmlformats.org/officeDocument/2006/relationships/slide" Target="slide9.xml"/><Relationship Id="rId9" Type="http://schemas.openxmlformats.org/officeDocument/2006/relationships/slide" Target="slide1.xml"/><Relationship Id="rId10" Type="http://schemas.openxmlformats.org/officeDocument/2006/relationships/slide" Target="slide1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5.xml"/><Relationship Id="rId4" Type="http://schemas.openxmlformats.org/officeDocument/2006/relationships/slide" Target="slide19.xml"/><Relationship Id="rId5" Type="http://schemas.openxmlformats.org/officeDocument/2006/relationships/slide" Target="slide19.xml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slide" Target="slide15.xml"/><Relationship Id="rId8" Type="http://schemas.openxmlformats.org/officeDocument/2006/relationships/slide" Target="slide19.xml"/><Relationship Id="rId9" Type="http://schemas.openxmlformats.org/officeDocument/2006/relationships/slide" Target="slide19.xml"/><Relationship Id="rId10" Type="http://schemas.openxmlformats.org/officeDocument/2006/relationships/slide" Target="slide21.xml"/><Relationship Id="rId11" Type="http://schemas.openxmlformats.org/officeDocument/2006/relationships/slide" Target="slide21.xml"/><Relationship Id="rId1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" Target="slide7.xml"/><Relationship Id="rId4" Type="http://schemas.openxmlformats.org/officeDocument/2006/relationships/slide" Target="slide4.xml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3.xml"/><Relationship Id="rId11" Type="http://schemas.openxmlformats.org/officeDocument/2006/relationships/slide" Target="slide3.xml"/><Relationship Id="rId12" Type="http://schemas.openxmlformats.org/officeDocument/2006/relationships/slide" Target="slide3.xml"/><Relationship Id="rId13" Type="http://schemas.openxmlformats.org/officeDocument/2006/relationships/slide" Target="slide3.xml"/><Relationship Id="rId1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1.xml"/><Relationship Id="rId8" Type="http://schemas.openxmlformats.org/officeDocument/2006/relationships/slide" Target="slide1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3.xml"/><Relationship Id="rId13" Type="http://schemas.openxmlformats.org/officeDocument/2006/relationships/slide" Target="slide3.xml"/><Relationship Id="rId14" Type="http://schemas.openxmlformats.org/officeDocument/2006/relationships/slide" Target="slide3.xml"/><Relationship Id="rId15" Type="http://schemas.openxmlformats.org/officeDocument/2006/relationships/slide" Target="slide4.xml"/><Relationship Id="rId1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4.xm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4.xml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10.xml"/><Relationship Id="rId5" Type="http://schemas.openxmlformats.org/officeDocument/2006/relationships/slide" Target="slide13.xml"/><Relationship Id="rId6" Type="http://schemas.openxmlformats.org/officeDocument/2006/relationships/slide" Target="slide13.xml"/><Relationship Id="rId7" Type="http://schemas.openxmlformats.org/officeDocument/2006/relationships/slide" Target="slide13.xml"/><Relationship Id="rId8" Type="http://schemas.openxmlformats.org/officeDocument/2006/relationships/slide" Target="slide13.xml"/><Relationship Id="rId9" Type="http://schemas.openxmlformats.org/officeDocument/2006/relationships/slide" Target="slide13.xml"/><Relationship Id="rId10" Type="http://schemas.openxmlformats.org/officeDocument/2006/relationships/slide" Target="slide1.xml"/><Relationship Id="rId11" Type="http://schemas.openxmlformats.org/officeDocument/2006/relationships/slide" Target="slide1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9.xml"/><Relationship Id="rId16" Type="http://schemas.openxmlformats.org/officeDocument/2006/relationships/slide" Target="slide9.xml"/><Relationship Id="rId17" Type="http://schemas.openxmlformats.org/officeDocument/2006/relationships/slide" Target="slide9.xml"/><Relationship Id="rId1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Dyspnoe/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Polypno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10800" y="549360"/>
            <a:ext cx="209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Dyspnoe/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Polypno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Beeinträchtigung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Atemzentrum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auerstoff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unterversorg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2" name=""/>
          <p:cNvCxnSpPr>
            <a:stCxn id="98" idx="3"/>
            <a:endCxn id="100" idx="1"/>
          </p:cNvCxnSpPr>
          <p:nvPr/>
        </p:nvCxnSpPr>
        <p:spPr>
          <a:xfrm flipV="1">
            <a:off x="3313080" y="3404160"/>
            <a:ext cx="2699280" cy="67824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3" name=""/>
          <p:cNvCxnSpPr>
            <a:stCxn id="98" idx="3"/>
            <a:endCxn id="101" idx="1"/>
          </p:cNvCxnSpPr>
          <p:nvPr/>
        </p:nvCxnSpPr>
        <p:spPr>
          <a:xfrm>
            <a:off x="3313080" y="4082040"/>
            <a:ext cx="2699280" cy="67356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4" name=""/>
          <p:cNvSpPr/>
          <p:nvPr/>
        </p:nvSpPr>
        <p:spPr>
          <a:xfrm>
            <a:off x="6021360" y="1494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Kompensation ein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metabolis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Azido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21360" y="55468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reaktiv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Dyspnoe/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2" action="ppaction://hlinksldjump"/>
              </a:rPr>
              <a:t>Polypno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8" idx="3"/>
            <a:endCxn id="104" idx="1"/>
          </p:cNvCxnSpPr>
          <p:nvPr/>
        </p:nvCxnSpPr>
        <p:spPr>
          <a:xfrm flipV="1">
            <a:off x="3313080" y="2054880"/>
            <a:ext cx="2708640" cy="202752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7" name=""/>
          <p:cNvCxnSpPr>
            <a:stCxn id="98" idx="3"/>
            <a:endCxn id="105" idx="1"/>
          </p:cNvCxnSpPr>
          <p:nvPr/>
        </p:nvCxnSpPr>
        <p:spPr>
          <a:xfrm>
            <a:off x="3313080" y="4082040"/>
            <a:ext cx="2708640" cy="202608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erlust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CO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über 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Dar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über d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Nier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0" idx="3"/>
            <a:endCxn id="161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64" name=""/>
          <p:cNvCxnSpPr>
            <a:stCxn id="160" idx="3"/>
            <a:endCxn id="162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65" name=""/>
          <p:cNvSpPr/>
          <p:nvPr/>
        </p:nvSpPr>
        <p:spPr>
          <a:xfrm>
            <a:off x="1092240" y="549360"/>
            <a:ext cx="69879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Dyspnoe/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Polypno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Kompensation einer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metabolischen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 Azido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Anionenlücke normal (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Subtraktionsazidose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2" action="ppaction://hlinksldjump"/>
              </a:rPr>
              <a:t>)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3" action="ppaction://hlinksldjump"/>
              </a:rPr>
              <a:t>Verlust von HCO</a:t>
            </a:r>
            <a:r>
              <a:rPr b="0" lang="de-DE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14" action="ppaction://hlinksldjump"/>
              </a:rPr>
              <a:t>3</a:t>
            </a:r>
            <a:r>
              <a:rPr b="0" lang="de-DE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15" action="ppaction://hlinksldjump"/>
              </a:rPr>
              <a:t>-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60280" y="6363360"/>
            <a:ext cx="196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HCO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- = Bikarbonat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über 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r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92240" y="549360"/>
            <a:ext cx="698796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Dyspnoe/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Polypno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Kompensation einer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metabolischen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 Azido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Anionenlücke normal (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Subtraktionsazidose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)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Verlust von HCO</a:t>
            </a:r>
            <a:r>
              <a:rPr b="0" lang="de-DE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3</a:t>
            </a:r>
            <a:r>
              <a:rPr b="0" lang="de-DE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-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über den Dar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70" name=""/>
          <p:cNvCxnSpPr>
            <a:stCxn id="168" idx="3"/>
            <a:endCxn id="171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71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Erbreche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Durchfall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60280" y="6363360"/>
            <a:ext cx="196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HCO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- = Bikarbonat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über d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ier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92240" y="549360"/>
            <a:ext cx="698796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Dyspnoe/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Polypno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Kompensation einer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metabolischen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 Azido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Anionenlücke normal (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Subtraktionsazidose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)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Verlust von HCO</a:t>
            </a:r>
            <a:r>
              <a:rPr b="0" lang="de-DE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3</a:t>
            </a:r>
            <a:r>
              <a:rPr b="0" lang="de-DE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-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über die Nier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76" name=""/>
          <p:cNvCxnSpPr>
            <a:stCxn id="174" idx="3"/>
            <a:endCxn id="177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77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proximale Tubulusazidose bei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chronischer Niereninsuffizienz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0280" y="6363360"/>
            <a:ext cx="196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HCO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- = Bikarbonat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usscheidung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+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30680" y="549360"/>
            <a:ext cx="72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Dyspnoe/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Polypno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Kompensation einer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metabolischen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 Azido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Anionenlücke normal (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Subtraktionsazidose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)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Auscheidung von H</a:t>
            </a:r>
            <a:r>
              <a:rPr b="1" lang="de-DE" sz="1800" spc="-1" strike="noStrike" baseline="30000">
                <a:solidFill>
                  <a:srgbClr val="333399"/>
                </a:solidFill>
                <a:latin typeface="Arial"/>
              </a:rPr>
              <a:t>+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  <a:ea typeface="Arial"/>
              </a:rPr>
              <a:t>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82" name=""/>
          <p:cNvCxnSpPr>
            <a:stCxn id="180" idx="3"/>
            <a:endCxn id="183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distale Tubulusazidose bei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chronischer Niereninsuffizienz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Untergang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Nephronen bei chronisch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Niereninsuffizienz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9920" y="6396840"/>
            <a:ext cx="122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0" lang="en-US" sz="1600" spc="-1" strike="noStrike" baseline="30000">
                <a:solidFill>
                  <a:srgbClr val="333399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= Proton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eeinträchtigung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temzentrum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10440" y="549360"/>
            <a:ext cx="634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Dyspnoe/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Polypno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Beeinträchtigung des Atemzentrum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88" name=""/>
          <p:cNvCxnSpPr>
            <a:stCxn id="186" idx="3"/>
            <a:endCxn id="189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89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Nark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Neoplasie des ZNS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53440" y="6396840"/>
            <a:ext cx="299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ZNS = zentrales Nervensystem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uerstoff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unterversorg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Obstruktion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oberen Atemweg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Sauerstoffaustau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in der Lung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gestör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2" idx="3"/>
            <a:endCxn id="193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96" name=""/>
          <p:cNvCxnSpPr>
            <a:stCxn id="192" idx="3"/>
            <a:endCxn id="194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97" name=""/>
          <p:cNvSpPr/>
          <p:nvPr/>
        </p:nvSpPr>
        <p:spPr>
          <a:xfrm>
            <a:off x="6021360" y="1494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auerstoff in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Umgebung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ea typeface="Arial"/>
                <a:hlinkClick r:id="rId8" action="ppaction://hlinksldjump"/>
              </a:rPr>
              <a:t>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21360" y="55468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Sauerstofftranspor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im Blut gestör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2" idx="3"/>
            <a:endCxn id="197" idx="1"/>
          </p:cNvCxnSpPr>
          <p:nvPr/>
        </p:nvCxnSpPr>
        <p:spPr>
          <a:xfrm flipV="1">
            <a:off x="3312720" y="2055600"/>
            <a:ext cx="2699640" cy="2026080"/>
          </a:xfrm>
          <a:prstGeom prst="bentConnector3">
            <a:avLst>
              <a:gd name="adj1" fmla="val 49933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00" name=""/>
          <p:cNvCxnSpPr>
            <a:stCxn id="192" idx="3"/>
            <a:endCxn id="198" idx="1"/>
          </p:cNvCxnSpPr>
          <p:nvPr/>
        </p:nvCxnSpPr>
        <p:spPr>
          <a:xfrm>
            <a:off x="3312720" y="4081320"/>
            <a:ext cx="2699640" cy="2028240"/>
          </a:xfrm>
          <a:prstGeom prst="bentConnector3">
            <a:avLst>
              <a:gd name="adj1" fmla="val 49933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01" name=""/>
          <p:cNvSpPr/>
          <p:nvPr/>
        </p:nvSpPr>
        <p:spPr>
          <a:xfrm>
            <a:off x="1039320" y="549360"/>
            <a:ext cx="50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Dyspnoe/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2" action="ppaction://hlinksldjump"/>
              </a:rPr>
              <a:t>Polypno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3" action="ppaction://hlinksldjump"/>
              </a:rPr>
              <a:t>Sauerstoffunterversorg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auerstoff in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Umgeb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038240" y="549360"/>
            <a:ext cx="71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Dyspnoe/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Polypno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Sauerstoffunterversorgung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Sauerstoff in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Umgebung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  <a:ea typeface="Arial"/>
              </a:rPr>
              <a:t>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05" name=""/>
          <p:cNvCxnSpPr>
            <a:stCxn id="203" idx="3"/>
            <a:endCxn id="206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06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unausgewogen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Narkosega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Aufenthalt in großer Höh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037520" y="549360"/>
            <a:ext cx="703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Dyspnoe/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Polypno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Sauerstoffunterversorgung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Obstruktion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oberen Atemweg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bstruktion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beren Atemweg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stCxn id="209" idx="3"/>
            <a:endCxn id="211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11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Trachealkollap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Larynxparaly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Brachiozephalen-Syndrom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akute allergische Schwellung,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Fremdkörper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auerstoffaustau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 der Lung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estör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039320" y="549360"/>
            <a:ext cx="757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Dyspnoe/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Polypno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Sauerstoffunterversorgung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Sauerstoffaustau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in der Lunge gestör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3" idx="3"/>
            <a:endCxn id="216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16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Pneumoni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Lungentumor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Lungenödem (kardiogen u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nicht-kardiogen)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auerstofftranspor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m Blut gestör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verändert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ämoglobin/zu weni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ämoglobi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kardiovaskulär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Ursa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21" name=""/>
          <p:cNvCxnSpPr>
            <a:stCxn id="218" idx="3"/>
            <a:endCxn id="219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22" name=""/>
          <p:cNvCxnSpPr>
            <a:stCxn id="218" idx="3"/>
            <a:endCxn id="220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23" name=""/>
          <p:cNvSpPr/>
          <p:nvPr/>
        </p:nvSpPr>
        <p:spPr>
          <a:xfrm>
            <a:off x="1134360" y="549360"/>
            <a:ext cx="725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Dyspnoe/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Polypno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auerstoffunterversorgung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Sauerstofftranspor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im Blut gestör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Kompensation ein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metabolis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Azido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nionenlücke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(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dditionsazidose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Anionenlücke norma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(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Subtraktionsazidose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9" idx="3"/>
            <a:endCxn id="110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13" name=""/>
          <p:cNvCxnSpPr>
            <a:stCxn id="109" idx="3"/>
            <a:endCxn id="111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14" name=""/>
          <p:cNvSpPr/>
          <p:nvPr/>
        </p:nvSpPr>
        <p:spPr>
          <a:xfrm>
            <a:off x="1092960" y="549360"/>
            <a:ext cx="678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Dyspnoe/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Polypno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Kompensation einer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2" action="ppaction://hlinksldjump"/>
              </a:rPr>
              <a:t>metabolischen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3" action="ppaction://hlinksldjump"/>
              </a:rPr>
              <a:t> Azido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erändert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ämoglobin/zu weni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ämoglobi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134360" y="549360"/>
            <a:ext cx="725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Dyspnoe/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Polypno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Sauerstoffunterversorgung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auerstofftranspor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im Blut gestör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verändertes Hämoglobin/zu wenig Hämoglobi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27" name=""/>
          <p:cNvCxnSpPr>
            <a:stCxn id="225" idx="3"/>
            <a:endCxn id="228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28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Anämi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Methämoglobinämi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kardiovaskulär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Ursa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erzauswurf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Vermischung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rteriellem u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venösem Blu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33" name=""/>
          <p:cNvCxnSpPr>
            <a:stCxn id="230" idx="3"/>
            <a:endCxn id="231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34" name=""/>
          <p:cNvCxnSpPr>
            <a:stCxn id="230" idx="3"/>
            <a:endCxn id="232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35" name=""/>
          <p:cNvSpPr/>
          <p:nvPr/>
        </p:nvSpPr>
        <p:spPr>
          <a:xfrm>
            <a:off x="1134360" y="549360"/>
            <a:ext cx="725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Dyspnoe/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Polypno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Sauerstoffunterversorgung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auerstofftranspor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im Blut gestör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kardiovaskuläre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 Ursa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37000" y="549360"/>
            <a:ext cx="785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Dyspnoe/Polypnoe &gt; Sauerstoffunterversorgung &gt; Sauerstofftranspor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im Blut gestört &gt; kardiovaskuläre Ursache &gt; Herzauswurf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erzauswurf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39" name=""/>
          <p:cNvCxnSpPr>
            <a:stCxn id="238" idx="3"/>
            <a:endCxn id="240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40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DCM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Aortenstenos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51640" y="6396840"/>
            <a:ext cx="325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DCM = dilatative Kardiomyopath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38440" y="549360"/>
            <a:ext cx="815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Dyspnoe/Polypnoe &gt; Sauerstoffunterversorgung &gt; Sauerstofftranspor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im Blut gestört &gt; kardiovaskuläre Ursache &gt; Vermischung von arterielle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und venösem Blu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ermischung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rteriellem u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enösem Blu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3"/>
            <a:endCxn id="246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46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umgedrehter PDA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umgedrehter VSD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pulmonäre arteriovenöse Fistel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53080" y="6153480"/>
            <a:ext cx="374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PDA = persistierender Ductus ateriosus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VSD = Ventrikelseptumdefekt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37000" y="549360"/>
            <a:ext cx="548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Dyspnoe/Polypnoe &gt; reaktive Dyspnoe/Polypno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reaktiv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Dyspnoe/Polypno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stCxn id="250" idx="3"/>
            <a:endCxn id="252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52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Schmerze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Stres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Anstrengung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Fieber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Hyperthyreos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Anionenlücke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(Additionsazidose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16" idx="3"/>
            <a:endCxn id="118" idx="1"/>
          </p:cNvCxnSpPr>
          <p:nvPr/>
        </p:nvCxnSpPr>
        <p:spPr>
          <a:xfrm flipV="1">
            <a:off x="3313080" y="2730600"/>
            <a:ext cx="2689920" cy="135108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19" name=""/>
          <p:cNvCxnSpPr>
            <a:stCxn id="116" idx="3"/>
            <a:endCxn id="120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21" name=""/>
          <p:cNvSpPr/>
          <p:nvPr/>
        </p:nvSpPr>
        <p:spPr>
          <a:xfrm>
            <a:off x="6012000" y="4869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ulfat-/Phosphat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zido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16" idx="3"/>
            <a:endCxn id="121" idx="1"/>
          </p:cNvCxnSpPr>
          <p:nvPr/>
        </p:nvCxnSpPr>
        <p:spPr>
          <a:xfrm>
            <a:off x="3313080" y="4080960"/>
            <a:ext cx="2689920" cy="1350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Ketoazido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2000" y="216864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Laktatazido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92240" y="549360"/>
            <a:ext cx="698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Dyspnoe/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Polypno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Kompensation einer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metabolischen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 Azido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Anionenlücke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ea typeface="Arial"/>
                <a:hlinkClick r:id="rId11" action="ppaction://hlinksldjump"/>
              </a:rPr>
              <a:t>↑ (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ea typeface="Arial"/>
                <a:hlinkClick r:id="rId12" action="ppaction://hlinksldjump"/>
              </a:rPr>
              <a:t>Additionsazidose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ea typeface="Arial"/>
                <a:hlinkClick r:id="rId13" action="ppaction://hlinksldjump"/>
              </a:rPr>
              <a:t>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aktatazido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Produktion dur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Darmbakterien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(selten beim Kleintier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auerstoffversorg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des Gewebes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ea typeface="Arial"/>
                <a:hlinkClick r:id="rId6" action="ppaction://hlinksldjump"/>
              </a:rPr>
              <a:t>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25" idx="3"/>
            <a:endCxn id="126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29" name=""/>
          <p:cNvCxnSpPr>
            <a:stCxn id="125" idx="3"/>
            <a:endCxn id="127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30" name=""/>
          <p:cNvSpPr/>
          <p:nvPr/>
        </p:nvSpPr>
        <p:spPr>
          <a:xfrm>
            <a:off x="1092240" y="549360"/>
            <a:ext cx="698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Dyspnoe/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Polypno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Kompensation einer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metabolischen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 Azido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2" action="ppaction://hlinksldjump"/>
              </a:rPr>
              <a:t>Anionenlücke ↑ (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3" action="ppaction://hlinksldjump"/>
              </a:rPr>
              <a:t>Additionsazidose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4" action="ppaction://hlinksldjump"/>
              </a:rPr>
              <a:t>)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5" action="ppaction://hlinksldjump"/>
              </a:rPr>
              <a:t>Laktatazido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oduktion dur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rmbakterien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selten beim Kleintier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37520" y="549360"/>
            <a:ext cx="7503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Dyspnoe/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Polypno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Kompensation einer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metabolischen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 Azido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Anionenlücke ↑ (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Additionsazidose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)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Laktatazido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Produktion dur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Darmbakterien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  <a:ea typeface="Arial"/>
              </a:rPr>
              <a:t>↑ (selten beim Kleintier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4" name=""/>
          <p:cNvCxnSpPr>
            <a:stCxn id="132" idx="3"/>
            <a:endCxn id="135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35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Dysbakteri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auerstoffversorg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s Gewebes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92240" y="549360"/>
            <a:ext cx="698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Dyspnoe/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Polypno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Kompensation einer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metabolischen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 Azido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Anionenlücke ↑ (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Additionsazidose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)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Laktatazido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Sauerstoffversorgung des Gewebes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  <a:ea typeface="Arial"/>
              </a:rPr>
              <a:t>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9" name=""/>
          <p:cNvCxnSpPr>
            <a:stCxn id="137" idx="3"/>
            <a:endCxn id="140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40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Schock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Magendrehung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Thromboemboli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etoazido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92240" y="549360"/>
            <a:ext cx="698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Dyspnoe/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Polypno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Kompensation einer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metabolischen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 Azido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Anionenlücke ↑ (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Additionsazidose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)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Ketoazido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4" name=""/>
          <p:cNvCxnSpPr>
            <a:stCxn id="142" idx="3"/>
            <a:endCxn id="145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45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diabetische Ketoazid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Kachexi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ulfat-/Phosphat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azido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92240" y="549360"/>
            <a:ext cx="698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Dyspnoe/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Polypno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Kompensation einer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metabolischen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 Azido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Anionenlücke ↑ (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Additionsazidose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)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Sulfat-/Phosphatazido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9" name=""/>
          <p:cNvCxnSpPr>
            <a:stCxn id="147" idx="3"/>
            <a:endCxn id="150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50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terminales Stadium ein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chronis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Niereninsuffizienz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Ethylenglykol-Intoxikation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Anionenlücke norma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(Subtraktionsazidose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Verlust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CO</a:t>
            </a:r>
            <a:r>
              <a:rPr b="0" lang="en-US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3</a:t>
            </a:r>
            <a:r>
              <a:rPr b="0" lang="en-US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Ausscheidung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</a:t>
            </a:r>
            <a:r>
              <a:rPr b="0" lang="en-US" sz="1800" spc="-1" strike="noStrike" u="sng" baseline="30000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+</a:t>
            </a:r>
            <a:r>
              <a:rPr b="0" lang="en-US" sz="1800" spc="-1" strike="noStrike" u="sng" baseline="30000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 </a:t>
            </a:r>
            <a:r>
              <a:rPr b="0" lang="en-US" sz="1800" spc="-1" strike="noStrike" u="sng" baseline="30000">
                <a:solidFill>
                  <a:srgbClr val="333399"/>
                </a:solidFill>
                <a:uFillTx/>
                <a:latin typeface="Arial"/>
                <a:ea typeface="Arial"/>
                <a:hlinkClick r:id="rId9" action="ppaction://hlinksldjump"/>
              </a:rPr>
              <a:t>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2" idx="3"/>
            <a:endCxn id="153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56" name=""/>
          <p:cNvCxnSpPr>
            <a:stCxn id="152" idx="3"/>
            <a:endCxn id="154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57" name=""/>
          <p:cNvSpPr/>
          <p:nvPr/>
        </p:nvSpPr>
        <p:spPr>
          <a:xfrm>
            <a:off x="1092240" y="549360"/>
            <a:ext cx="698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Dyspnoe/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Polypno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2" action="ppaction://hlinksldjump"/>
              </a:rPr>
              <a:t>Kompensation einer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3" action="ppaction://hlinksldjump"/>
              </a:rPr>
              <a:t>metabolischen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4" action="ppaction://hlinksldjump"/>
              </a:rPr>
              <a:t> Azido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5" action="ppaction://hlinksldjump"/>
              </a:rPr>
              <a:t>Anionenlücke normal (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6" action="ppaction://hlinksldjump"/>
              </a:rPr>
              <a:t>Subtraktionsazidose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7" action="ppaction://hlinksldjump"/>
              </a:rPr>
              <a:t>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60280" y="6120000"/>
            <a:ext cx="19652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HCO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- = Bikarbonat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0" lang="en-US" sz="1600" spc="-1" strike="noStrike" baseline="30000">
                <a:solidFill>
                  <a:srgbClr val="333399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= Proton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Steffi &amp; Gregor</cp:lastModifiedBy>
  <cp:lastPrinted>1999-05-13T12:26:48Z</cp:lastPrinted>
  <dcterms:modified xsi:type="dcterms:W3CDTF">2008-10-16T09:49:19Z</dcterms:modified>
  <cp:revision>335</cp:revision>
  <dc:subject/>
  <dc:title>Vorstellung einer Neuheit</dc:title>
</cp:coreProperties>
</file>